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29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dt" idx="4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ftr" idx="4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 type="sldNum" idx="5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FC42-CCA7-48E3-9297-06BD9241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BF88-C82F-4E08-B4AD-E2AE37C50E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202-974F-4199-A598-A2CDE23F9A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7F04-72F9-47AD-8666-334C51351B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FADC-A3FA-4DBC-94FF-CF7D8C6A27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5435-0B37-4CDA-8276-15E71C0E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9EDB-7851-47B0-A27A-43B53EAF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777B0D-085B-4302-BF81-7E454726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A801FA-C8B9-48FD-BFE8-17AEA191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847C22-D3E1-4BBB-9C9C-F93565EE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AE7142-D844-4216-955A-0F168006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D98701-B619-4354-ACFF-757FE0C0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1E4DF6-3D46-442A-9A82-F4F077A5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27A07F-5027-4766-9EF4-CCE219BB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2FB239-52EE-4726-BA54-83FBBB7A8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8D323E-24D9-4A78-8BA3-FE1AA8C4E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567C5-9347-45E6-832A-08108F4B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9B29-8738-4759-92AA-88C7553B5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C0CF4-C7FF-488E-B577-856C4D2F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F8204-6BF1-47EB-85D1-E09BFB0F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6BA20-B3E9-402D-B75A-97187B66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3680AA-3FB9-43DF-A677-9E2802F4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F63A07-5C99-4D8C-ACD1-336C90A4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8C6152-394B-4C0A-8A6D-BABA1BB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AAD9AF-C322-402D-8669-6310FC6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533D7-7CEC-4027-B561-73AF0931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1C6463-B45F-4C36-9C77-E634638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C6C10-3D0A-46E9-BF30-9CD78C6F1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451-31CE-4F0C-ABEB-E60E4889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E2148-CAAB-4EF4-A514-30FE02986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E2221-7A92-4113-B998-169F6E6B1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FEF89D-1205-430F-9BC6-A0555F52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8564EF-6088-46E8-A51E-2E794FD1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95B68A-69B4-4C1F-A0FD-EF7BC0213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52C1A-92F4-47A3-B5A3-A0D65278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4D923-1214-409E-BDBB-829A0002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BAD419-9786-4B8A-BE99-B22021E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C7A866-D461-4815-95A2-08F5713E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B0074F-84BF-4BFA-ADC0-38DF2BC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F799-6033-413C-9E8F-7914AB93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09EA5-3FFF-463D-8280-44F8A45E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009E82-6570-489C-B6FA-8BB5D2D4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BE50D-15E0-4852-8D34-CDC5992F9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522727-18C7-4E9F-BB5E-59CADD1A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8F05D1-FEEF-496C-B0F5-AB47BF6F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A967D0-A7F3-40DA-ACDF-9B35E5CF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9A71828-F56C-4F7C-87C9-162338C0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C95651-B597-49D6-B1D1-02BD51C7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DC27B9-C12E-4814-89D3-A2D9F8DD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5A33080-30D5-44F6-9459-804E92CC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656F-48A0-4B6E-B9EB-61FA8B78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7F1FE2-E738-4F46-915C-D2E50F03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171C8B-1B22-407D-AE99-4CD67681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FA36A6-6049-4A5F-839F-6501B8DF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A2AB1A-C42E-4E95-B3CA-AB0DB185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9933C6-CB16-492F-9784-62528FFE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B4C152-4007-488E-948D-0ED5A314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1E0BB-63D6-4E21-BB98-431A5E90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219FC-0A3B-4687-B994-BBE70B62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0013A-55EA-48FC-B291-5A0EC005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83ED6E-082C-4E56-923A-E7D07849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5E19-0ABB-420C-A5D7-4AD66182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5EEBEA-5892-41F3-917A-D2DAC740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829B12-7C6D-451A-A5EB-0E5B3966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7A26DB-0E73-4DD2-9F1D-4BA3A60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EFA4A-8DF0-42CE-92EC-CEA89693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E00DDB-CE65-4E0B-9840-ED093570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87374-5DA0-44CD-9150-584D5BCC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F945C6-FEC2-459A-A686-FC63EDA1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59E42A-512D-40DD-AEEC-9D0457B4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13FFBB-2D5B-414A-A598-EF6C18988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3AFD2E4-3C85-408F-9448-700FA082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23DA-49EA-47EE-9A41-9AFC71FB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DCBD8A4-4731-4551-8139-7C39890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BD01D8-2D78-4B3D-A112-F925671D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902BEAB-8E83-446F-B686-73F2B76A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207335-0EA7-4156-975C-F52749B5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0F653B-9653-4239-9180-3911A17B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113706-FF71-4B71-A2D5-0349A234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4EE19D-F6F2-413B-9E44-E16F9FA1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85AD3A-E2ED-4676-82B0-A98C8FFB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DF216C-E4D0-4671-AE0B-DED92DE3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8C4E-2647-4978-B962-3A9C2955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C4E6-A0BF-4D91-9FED-90B5CADE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338-A2A7-4076-80D4-1C21087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DF1F-4713-4421-AA2B-E5BFB458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4DDD-9062-46CC-882D-7605204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A71A-15C2-41FB-86F8-959334A8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EF3E-528C-44ED-8175-B664E702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154B-F2A2-4895-8D3F-CCCE9D26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B084-04C0-45B7-A3C0-0DBAD202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AC6-9F1C-436C-A83E-9C4C2E9F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8E2-8CC5-47A8-AEA0-AA43A1BF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77BF9B-3528-4956-A71A-09450414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3E9-EB2F-460B-BA87-E5257A44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EDEA8F-F41F-465D-9F4C-24E51F12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8F462C-F513-4EE1-AFE5-6FA39F1B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ED34DF-8BB1-4500-8FAC-0308081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02AB09-A252-4902-A901-9E51E045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7C61B-174F-4348-BD51-D7115A4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7B709-4FEB-4464-B6BB-8A477110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32F59F-4D84-4F83-848C-140662A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FA93A-DB5B-4283-9FFE-65E65AC4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111526-1D3B-4D06-912E-D22E91B6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8D6658-60C7-4D31-8546-579AEA9BF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198F-B49C-4312-9EB3-BCFE1756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E5F93F-8606-4AEC-BCA8-7DD4DA33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15158-061A-4B76-AD88-CA8844BD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07ED99-BB9D-4B52-8FC4-5DA3A620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BFD907-EFC6-4499-AE29-0BA66599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EAAEF8-ABE4-4FF7-8D22-10C82EB5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FBBAE22-DF62-4229-B2D4-437F9AAE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00E2C-FCD7-4EF5-BD68-223FD5A4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9CEEEC-3683-4F03-B8C7-299FEBC0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89DCE7-1A45-4D08-A53F-C5D71E1F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0732EF-0DB3-4DD0-A6F8-EB422DAA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7AD-539F-4323-B987-659063BA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70D6AD-58FE-4174-B2F9-EABAA213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41F625-1EB5-4D19-B8EA-5829AA54E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B24B08-ABA0-4C2D-A6E2-89147D09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114BB-2AC5-4AB0-9DF9-6AC8F1C6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E46496-AAF0-4E0E-9D92-CF160120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0A6CDA-37EE-4A14-BDA8-C9C9576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23C550-EF5F-4523-AA13-28CCE339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9CACAA-4754-431D-9278-0E15424C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40F8AF-D104-41F5-ABE9-5356595F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B81B3A-D0A0-4917-B27E-9E749B58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1FC7-D58C-4465-90C2-0DB4C9A8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568D29-2B53-4E91-BB60-3F5876C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C2938-9490-457A-A93C-CDA38524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8A681-BA55-4B75-8241-1E08AD64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81A55-B79F-4796-B392-95A5C591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92A33-5A99-46F0-8C8B-C0080AB97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61FCF12-0F76-4022-B2FF-4497A933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AD2D9-3146-4E70-9DB5-4C01172B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5BC503-4568-4A51-9340-6A90463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8478AD-869E-44A3-B92D-4286D53C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2D7F29-CE8D-4C9A-9293-00EADF15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692-DCED-4965-B139-70CF5A0D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13F434-8A76-4E2E-A4E1-B4584A7F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47B069-1423-407A-90AE-58D1C6DD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4918A3-1D45-4B05-B98D-B81C263A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D31666-5941-4D7C-8348-DDB47BFE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2B870-2DA5-48CE-ACB1-B6445D68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D55FBB-ED79-4D2F-9707-0500DEE6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02F4FA-D7B3-4C68-9BA7-15573FF0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5358ED-55A0-4E1A-B97A-31B6517D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A7B2E1-02A2-4FD0-BE75-1440A2CB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15F597-6558-4C5B-973B-A1393FB0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120-A085-4806-A3B3-C07740D6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E5B9F-3B07-4E04-9F23-0CE221207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C1E-46F7-43DA-81C1-9DB03168E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CB7-A5AD-4C0E-8E95-112338308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7A68-C1EF-4505-83A4-F68325757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17A7-E1F0-496E-BB37-6F5D94191B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4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728A-ABBE-4E18-BC18-C4DE038B2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ftr" idx="4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AA6F-9C35-4574-9427-920F435D6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5398-E43B-4190-A262-7D62F2CC9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9C34-D7A4-42AD-8BDE-2C04B91F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95B-9C32-4947-8E5A-5B171550F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5CB1-B8B9-4045-A902-8D9CCEBAE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8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8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3" name="Rectangle 2"/>
          <p:cNvGrpSpPr/>
          <p:nvPr/>
        </p:nvGrpSpPr>
        <p:grpSpPr>
          <a:xfrm>
            <a:off x="1395360" y="23760"/>
            <a:ext cx="6194520" cy="1251000"/>
            <a:chOff x="1395360" y="23760"/>
            <a:chExt cx="6194520" cy="1251000"/>
          </a:xfrm>
        </p:grpSpPr>
        <p:pic>
          <p:nvPicPr>
            <p:cNvPr id="1054" name="Rectangle 2" descr=""/>
            <p:cNvPicPr/>
            <p:nvPr/>
          </p:nvPicPr>
          <p:blipFill>
            <a:blip r:embed="rId1"/>
            <a:stretch/>
          </p:blipFill>
          <p:spPr>
            <a:xfrm>
              <a:off x="1395360" y="23760"/>
              <a:ext cx="61945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5" name=""/>
            <p:cNvSpPr/>
            <p:nvPr/>
          </p:nvSpPr>
          <p:spPr>
            <a:xfrm>
              <a:off x="1523880" y="228600"/>
              <a:ext cx="59436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900" spc="-1" strike="noStrike">
                  <a:solidFill>
                    <a:srgbClr val="ffff00"/>
                  </a:solidFill>
                  <a:latin typeface="Arial"/>
                </a:rPr>
                <a:t>Pituitary Gland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8" descr="glands"/>
          <p:cNvPicPr/>
          <p:nvPr/>
        </p:nvPicPr>
        <p:blipFill>
          <a:blip r:embed="rId2"/>
          <a:srcRect l="5764" t="7593" r="3391" b="3797"/>
          <a:stretch/>
        </p:blipFill>
        <p:spPr>
          <a:xfrm>
            <a:off x="1143000" y="1600200"/>
            <a:ext cx="6629400" cy="464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Picture 4" descr=""/>
          <p:cNvPicPr/>
          <p:nvPr/>
        </p:nvPicPr>
        <p:blipFill>
          <a:blip r:embed="rId1"/>
          <a:srcRect l="19924" t="2871" r="19570" b="3073"/>
          <a:stretch/>
        </p:blipFill>
        <p:spPr>
          <a:xfrm>
            <a:off x="5867280" y="304920"/>
            <a:ext cx="31244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88" name="Picture 7" descr="http://www.rci.rutgers.edu/~uzwiak/SysPhys09/SPSpringLect3_files/image004.jpg"/>
          <p:cNvPicPr/>
          <p:nvPr/>
        </p:nvPicPr>
        <p:blipFill>
          <a:blip r:embed="rId2"/>
          <a:stretch/>
        </p:blipFill>
        <p:spPr>
          <a:xfrm>
            <a:off x="152280" y="304920"/>
            <a:ext cx="556272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- ADH (=Vasopressin)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sopres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lso known as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inine vasopres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VP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antidiuretic horm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is a neurohypophyseal hrm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te of produc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ly supraop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nd paraventericular nucle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hypothalam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te of stor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erior pituitary (=neurohypophy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opressins are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consisting of nine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s (nonapeptides)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two primary functions are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n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ody an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ict blood vess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 txBox="1"/>
          <p:nvPr/>
        </p:nvSpPr>
        <p:spPr>
          <a:xfrm>
            <a:off x="380520" y="76176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sopressin recepto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- Antidiuresis (=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reabsorption of water by kidne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urine osmolarity (increased urine concentration) and decreased water excretion b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ermeabilit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l tubules &amp; collecting 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wa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ter reabsorption by passive di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itle 1"/>
          <p:cNvSpPr/>
          <p:nvPr/>
        </p:nvSpPr>
        <p:spPr>
          <a:xfrm>
            <a:off x="1523880" y="152280"/>
            <a:ext cx="632484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1- ADH (=Vasopressin)</a:t>
            </a:r>
            <a:br>
              <a:rPr sz="4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3" name=""/>
          <p:cNvGraphicFramePr/>
          <p:nvPr/>
        </p:nvGraphicFramePr>
        <p:xfrm>
          <a:off x="457200" y="1447920"/>
          <a:ext cx="8458200" cy="1625400"/>
        </p:xfrm>
        <a:graphic>
          <a:graphicData uri="http://schemas.openxmlformats.org/drawingml/2006/table">
            <a:tbl>
              <a:tblPr/>
              <a:tblGrid>
                <a:gridCol w="1336680"/>
                <a:gridCol w="2021040"/>
                <a:gridCol w="1942920"/>
                <a:gridCol w="3157560"/>
              </a:tblGrid>
              <a:tr h="3682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1A recep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1B recep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V2 recep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lood vess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nterior Pituita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llecting Ducts of  Neph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chanis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racellular C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CTH secr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ntidiuretic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 txBox="1"/>
          <p:nvPr/>
        </p:nvSpPr>
        <p:spPr>
          <a:xfrm>
            <a:off x="762120" y="151920"/>
            <a:ext cx="76197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chanism of action of ADH on kidney tubule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2" descr="http://droualb.faculty.mjc.edu/Course%20Materials/Physiology%20101/Chapter%20Notes/Fall%202007/figure_19_10_labeled.jpg"/>
          <p:cNvPicPr/>
          <p:nvPr/>
        </p:nvPicPr>
        <p:blipFill>
          <a:blip r:embed="rId1"/>
          <a:srcRect l="2654" t="1350" r="1771" b="10816"/>
          <a:stretch/>
        </p:blipFill>
        <p:spPr>
          <a:xfrm>
            <a:off x="457200" y="685800"/>
            <a:ext cx="822960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96" name="Rectangle 3"/>
          <p:cNvSpPr/>
          <p:nvPr/>
        </p:nvSpPr>
        <p:spPr>
          <a:xfrm>
            <a:off x="380880" y="571500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chanis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M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ells &amp; Formation of microtubules in cell membra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quaporin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ffect on Cardiovascular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28600" y="990360"/>
            <a:ext cx="86868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decrease in blood volume is sufficient to cause release of AD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Vas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ess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creases peripheral vascular resistanc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vaso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nstriction) i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large amounts only,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d thus increases arterial blood pressur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effect appears small i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dividuals; however it becomes an important compensatory mechanism for restoring blood pressure i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ypovolemic shock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ch as that which occurs during hemorrhag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 txBox="1"/>
          <p:nvPr/>
        </p:nvSpPr>
        <p:spPr>
          <a:xfrm>
            <a:off x="304920" y="16002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D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e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1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likely that vasopressin acts in conjunction with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rticotropin-releasing hormone (CRH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to modulate the release of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rticosteroi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from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renal g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in response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articularly during pregnancy and lactation in mamm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itle 1"/>
          <p:cNvSpPr/>
          <p:nvPr/>
        </p:nvSpPr>
        <p:spPr>
          <a:xfrm>
            <a:off x="304920" y="533520"/>
            <a:ext cx="853416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Effect on Central nervous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ion of AD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920" y="12193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)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Osmolality of ECF (e.g.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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salt intake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s ADH release to dilute ECF again to nor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)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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Blood volume (e.g. hemorrhage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equency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hibito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mpulses from volume receptors in heart to supraoptic nuclei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lease of AD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 algn="just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3) Renal ischemi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e to hemorrhag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ni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giotensin II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H secre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ater reabsorp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86728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gulation of AD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304920" y="76212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4) Alcoho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hib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 secre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rked diur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5) Atrial natriuretic peptid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nhib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 secretion, in part by inhibiting Angiotensin II-induced stimulation of ADH secre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5) Anxiety, Pain &amp; Traum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6) Morphine &amp; Nicotin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7) Hot Weathe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D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5" name="Picture 6" descr="http://arbl.cvmbs.colostate.edu/hbooks/pathphys/endocrine/hypopit/adh.gif"/>
          <p:cNvPicPr/>
          <p:nvPr/>
        </p:nvPicPr>
        <p:blipFill>
          <a:blip r:embed="rId1"/>
          <a:stretch/>
        </p:blipFill>
        <p:spPr>
          <a:xfrm>
            <a:off x="6324480" y="3276720"/>
            <a:ext cx="23623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Picture 4" descr="http://cvphysiology.com/Blood%20Pressure/BP016%20ADH.pn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457200" y="914040"/>
            <a:ext cx="8229600" cy="5211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2" descr=""/>
          <p:cNvPicPr/>
          <p:nvPr/>
        </p:nvPicPr>
        <p:blipFill>
          <a:blip r:embed="rId2"/>
          <a:srcRect l="0" t="2755" r="0" b="0"/>
          <a:stretch/>
        </p:blipFill>
        <p:spPr>
          <a:xfrm>
            <a:off x="152280" y="182520"/>
            <a:ext cx="8763120" cy="64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7" name="Rectangle 2"/>
          <p:cNvGrpSpPr/>
          <p:nvPr/>
        </p:nvGrpSpPr>
        <p:grpSpPr>
          <a:xfrm>
            <a:off x="1474920" y="-23760"/>
            <a:ext cx="6346800" cy="998640"/>
            <a:chOff x="1474920" y="-23760"/>
            <a:chExt cx="6346800" cy="998640"/>
          </a:xfrm>
        </p:grpSpPr>
        <p:pic>
          <p:nvPicPr>
            <p:cNvPr id="1058" name="Rectangle 2" descr=""/>
            <p:cNvPicPr/>
            <p:nvPr/>
          </p:nvPicPr>
          <p:blipFill>
            <a:blip r:embed="rId1"/>
            <a:stretch/>
          </p:blipFill>
          <p:spPr>
            <a:xfrm>
              <a:off x="1474920" y="-23760"/>
              <a:ext cx="634680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1600200" y="152280"/>
              <a:ext cx="6095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pl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ypothalamu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s the major integrative site for the neuroendocrin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nterior and posterior pituitary lob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ith respect to cell types, vascular supply, development, and innerv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fy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osterior pituitary hormones (oxytocin &amp; vasopressi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ist target tissues fo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xytoc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and describe its effects on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scribe stimuli and mechanisms that control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asopress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secre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sorders of secretion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Diabetes Insipidus (D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04920" y="1142640"/>
            <a:ext cx="86104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H secretion or ac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entral DI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mag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raoptic -hypophyse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by a tum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phrogenic DI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ck of kidney response to AD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V2 receptor defect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Manifestations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yuria (4-6 L/day &amp; may be 15 L/day)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ss of fluid in ur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hydr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ydipsia (constant thirst due to dehydrati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reatment: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nthetic vasopressin (nasal spra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1" name="Picture 2" descr="http://www.soccerpluseducation.org/images/diabetes-and-black-eyes-37132.jpg"/>
          <p:cNvPicPr/>
          <p:nvPr/>
        </p:nvPicPr>
        <p:blipFill>
          <a:blip r:embed="rId1"/>
          <a:stretch/>
        </p:blipFill>
        <p:spPr>
          <a:xfrm>
            <a:off x="380880" y="457200"/>
            <a:ext cx="403884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12" name="Picture 6" descr="http://humanphysiology.tuars.com/program/section7/7ch08/7ch08img/7c08p42.jpg"/>
          <p:cNvPicPr/>
          <p:nvPr/>
        </p:nvPicPr>
        <p:blipFill>
          <a:blip r:embed="rId2"/>
          <a:stretch/>
        </p:blipFill>
        <p:spPr>
          <a:xfrm>
            <a:off x="4724280" y="457200"/>
            <a:ext cx="403884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91520" cy="10670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yndrome of Inappropriate ADH Secretion (SIAD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auses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-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DH from brain tumors &amp; lung tumors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ADH from posterior pituitary in T.B. &amp; pneumoni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Manifestations: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CF volum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= water intoxication)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5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ncentration &amp; osmolality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(= dilutional hyponatraemia)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intracellular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dem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vulsion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ma 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sudden death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reatment: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- Loop diuretics with sa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- 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receptor antagonist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- Water restriction.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- Demeclocyclin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437920" y="151920"/>
            <a:ext cx="441972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XYTOC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228600" y="83772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d oxytocin was coined from Greek “oxys” and “tokos” mea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quick birth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bec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rst peptide horm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sequenced or synthesized. Vigneaud was awarde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b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ze in 1955 for his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is normally produc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ypothalamus (paraventricular nuclei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or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sterior pituitary g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tocin is a peptide consisting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amino acids (=nonapeptid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elp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r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ation &amp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4419720" cy="685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00"/>
                </a:solidFill>
                <a:latin typeface="Arial"/>
              </a:rPr>
              <a:t>2- OXYTOCIN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 txBox="1"/>
          <p:nvPr/>
        </p:nvSpPr>
        <p:spPr>
          <a:xfrm>
            <a:off x="304560" y="68544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A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1) On uterus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mulates pregnant uteru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r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werful contraction and helps deliver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2) Primary fertilization of ovum: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xual Stimulatio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u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rcours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imulation of paraventricular nuclei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xytoci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terine contraction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terine suction of semen upward toward Fallopian tub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4"/>
          <p:cNvSpPr/>
          <p:nvPr/>
        </p:nvSpPr>
        <p:spPr>
          <a:xfrm>
            <a:off x="304920" y="380880"/>
            <a:ext cx="8458200" cy="77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) Milk Ejection: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Oxytocin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contraction of myoepithelial cells around alveoli of Mammary glands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dur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actation (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etdown reflex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ncreasing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ternal behavio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ncreasing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trust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reducing fear and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ppressing appeti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 a medication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it is used to cause contraction of the uterus, which is used to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art labo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, increase the speed of labor, and to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top bleeding following delive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YTOCI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1" name="Picture 4" descr="http://www2.palomar.edu/users/rmorrissette/Lectures/Physio/210Endocrinology_files/slide0127_image013.jpg"/>
          <p:cNvPicPr/>
          <p:nvPr/>
        </p:nvPicPr>
        <p:blipFill>
          <a:blip r:embed="rId1"/>
          <a:stretch/>
        </p:blipFill>
        <p:spPr>
          <a:xfrm>
            <a:off x="228600" y="1143000"/>
            <a:ext cx="541008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22" name="Picture 6" descr="http://intranet.tdmu.edu.ua/data/kafedra/internal/i_nurse/classes_stud/ADN%20Program/Full%20time%20study/Second%20year/nutrition%20and%20diet%20therapy/10.%20Life%20Cycle%20Nutrition%20Pregnancy%20and%20Lactation.files/image053.jpg"/>
          <p:cNvPicPr/>
          <p:nvPr/>
        </p:nvPicPr>
        <p:blipFill>
          <a:blip r:embed="rId2"/>
          <a:stretch/>
        </p:blipFill>
        <p:spPr>
          <a:xfrm>
            <a:off x="5791320" y="1143000"/>
            <a:ext cx="303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457200" y="914040"/>
            <a:ext cx="8229600" cy="5211720"/>
          </a:xfrm>
          <a:prstGeom prst="rect">
            <a:avLst/>
          </a:prstGeom>
          <a:ln w="0">
            <a:noFill/>
          </a:ln>
        </p:spPr>
      </p:pic>
      <p:sp>
        <p:nvSpPr>
          <p:cNvPr id="1125" name="Footer Placeholder 3"/>
          <p:cNvSpPr/>
          <p:nvPr/>
        </p:nvSpPr>
        <p:spPr>
          <a:xfrm>
            <a:off x="457200" y="6305400"/>
            <a:ext cx="830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Picture 2" descr="https://scontent-lga1-1.xx.fbcdn.net/hphotos-xft1/v/t1.0-9/11694845_1015971198421584_5071033471981378091_n.jpg?oh=c6768a9433b1b34ffe9f4419c7eaf00d&amp;oe=56820734"/>
          <p:cNvPicPr/>
          <p:nvPr/>
        </p:nvPicPr>
        <p:blipFill>
          <a:blip r:embed="rId2"/>
          <a:srcRect l="8110" t="11177" r="8110" b="16191"/>
          <a:stretch/>
        </p:blipFill>
        <p:spPr>
          <a:xfrm>
            <a:off x="6172200" y="3505320"/>
            <a:ext cx="2971800" cy="335268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4" descr="https://scontent-lga1-1.xx.fbcdn.net/hphotos-xpa1/v/t1.0-9/11760249_1014758158542888_5433143007019223133_n.jpg?oh=97d564e330624562dc132277bf79537b&amp;oe=5646ACA0"/>
          <p:cNvPicPr/>
          <p:nvPr/>
        </p:nvPicPr>
        <p:blipFill>
          <a:blip r:embed="rId3"/>
          <a:stretch/>
        </p:blipFill>
        <p:spPr>
          <a:xfrm>
            <a:off x="0" y="0"/>
            <a:ext cx="6172200" cy="68580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2" descr="E:\MCST new new\HANY MCST new\صور و حكم محاضرات\11182234_972034726148565_8388958091086106353_n.jpg"/>
          <p:cNvPicPr/>
          <p:nvPr/>
        </p:nvPicPr>
        <p:blipFill>
          <a:blip r:embed="rId4"/>
          <a:srcRect l="33055" t="29826" r="33339" b="19537"/>
          <a:stretch/>
        </p:blipFill>
        <p:spPr>
          <a:xfrm>
            <a:off x="6172200" y="0"/>
            <a:ext cx="29718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https://fbcdn-sphotos-b-a.akamaihd.net/hphotos-ak-xfp1/v/t1.0-9/12191526_768885859900903_8375571140430087867_n.jpg?oh=be6b2d1b4bf9787e7b0ce667d5ad389c&amp;oe=56C14D76&amp;__gda__=1456500735_4be071f6bee9ecd910b1b95a3904865a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1" name="Rectangle 2"/>
          <p:cNvGrpSpPr/>
          <p:nvPr/>
        </p:nvGrpSpPr>
        <p:grpSpPr>
          <a:xfrm>
            <a:off x="328680" y="42840"/>
            <a:ext cx="8480520" cy="1084320"/>
            <a:chOff x="328680" y="42840"/>
            <a:chExt cx="8480520" cy="1084320"/>
          </a:xfrm>
        </p:grpSpPr>
        <p:pic>
          <p:nvPicPr>
            <p:cNvPr id="1062" name="Rectangle 2" descr=""/>
            <p:cNvPicPr/>
            <p:nvPr/>
          </p:nvPicPr>
          <p:blipFill>
            <a:blip r:embed="rId1"/>
            <a:stretch/>
          </p:blipFill>
          <p:spPr>
            <a:xfrm>
              <a:off x="328680" y="42840"/>
              <a:ext cx="848052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>
              <a:off x="457200" y="192240"/>
              <a:ext cx="82296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</a:rPr>
                <a:t>The pituitary is two fused glan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4" name="Picture 3" descr="18f04"/>
          <p:cNvPicPr/>
          <p:nvPr/>
        </p:nvPicPr>
        <p:blipFill>
          <a:blip r:embed="rId2"/>
          <a:stretch/>
        </p:blipFill>
        <p:spPr>
          <a:xfrm>
            <a:off x="533520" y="1066680"/>
            <a:ext cx="8153280" cy="558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8" descr="http://www.autismpedia.org/wiki/images/e/e5/Pituitary.jpg"/>
          <p:cNvPicPr/>
          <p:nvPr/>
        </p:nvPicPr>
        <p:blipFill>
          <a:blip r:embed="rId1"/>
          <a:srcRect l="0" t="4974" r="0" b="0"/>
          <a:stretch/>
        </p:blipFill>
        <p:spPr>
          <a:xfrm>
            <a:off x="228600" y="228600"/>
            <a:ext cx="86868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Rectangle 2"/>
          <p:cNvGrpSpPr/>
          <p:nvPr/>
        </p:nvGrpSpPr>
        <p:grpSpPr>
          <a:xfrm>
            <a:off x="328680" y="285840"/>
            <a:ext cx="8480520" cy="1066680"/>
            <a:chOff x="328680" y="285840"/>
            <a:chExt cx="8480520" cy="1066680"/>
          </a:xfrm>
        </p:grpSpPr>
        <p:pic>
          <p:nvPicPr>
            <p:cNvPr id="1067" name="Rectangle 2" descr=""/>
            <p:cNvPicPr/>
            <p:nvPr/>
          </p:nvPicPr>
          <p:blipFill>
            <a:blip r:embed="rId1"/>
            <a:stretch/>
          </p:blipFill>
          <p:spPr>
            <a:xfrm>
              <a:off x="328680" y="285840"/>
              <a:ext cx="84805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457200" y="457200"/>
              <a:ext cx="82296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600"/>
              </a:br>
              <a:r>
                <a:rPr b="1" lang="en-US" sz="4000" spc="-1" strike="noStrike">
                  <a:solidFill>
                    <a:srgbClr val="ffff00"/>
                  </a:solidFill>
                  <a:latin typeface="Arial"/>
                  <a:ea typeface="Arial"/>
                </a:rPr>
                <a:t>Pituitary Gland (Hypophysis)</a:t>
              </a:r>
              <a:br>
                <a:rPr sz="4000"/>
              </a:br>
              <a:r>
                <a:rPr b="1" lang="en-US" sz="29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a siz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of glandular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e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la turc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lender stal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Infundibulum connects pituitary gland to hypothala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179280" algn="just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 par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Posterior pituitary (=neurohypoph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osed of nervous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Anterior pituitary (=adenohypoph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sts of glandular epithelial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Rectangle 2"/>
          <p:cNvGrpSpPr/>
          <p:nvPr/>
        </p:nvGrpSpPr>
        <p:grpSpPr>
          <a:xfrm>
            <a:off x="858960" y="49320"/>
            <a:ext cx="7188120" cy="1150920"/>
            <a:chOff x="858960" y="49320"/>
            <a:chExt cx="7188120" cy="1150920"/>
          </a:xfrm>
        </p:grpSpPr>
        <p:pic>
          <p:nvPicPr>
            <p:cNvPr id="1071" name="Rectangle 2" descr=""/>
            <p:cNvPicPr/>
            <p:nvPr/>
          </p:nvPicPr>
          <p:blipFill>
            <a:blip r:embed="rId1"/>
            <a:stretch/>
          </p:blipFill>
          <p:spPr>
            <a:xfrm>
              <a:off x="858960" y="49320"/>
              <a:ext cx="718812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990720" y="228600"/>
              <a:ext cx="6933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Pituitary Gland Secretion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662940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Anterior Pituitary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cret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wth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G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lact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PRL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yroi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T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ren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tico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opic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ACT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llicl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ulat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FS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teinizing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mone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LH)</a:t>
            </a: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0">
              <a:lnSpc>
                <a:spcPct val="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Georgia"/>
              </a:rPr>
              <a:t>Posterior Pituitary: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secretes</a:t>
            </a:r>
            <a:endParaRPr b="0" lang="en-US" sz="28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Vasopressin (ADH)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333399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xytocin</a:t>
            </a:r>
            <a:endParaRPr b="0" lang="en-US" sz="2600" spc="-1" strike="noStrike">
              <a:solidFill>
                <a:srgbClr val="003333"/>
              </a:solidFill>
              <a:latin typeface="Georgia"/>
            </a:endParaRPr>
          </a:p>
        </p:txBody>
      </p:sp>
      <p:pic>
        <p:nvPicPr>
          <p:cNvPr id="1074" name="Picture 7" descr="https://bohone09.wikispaces.com/file/view/Pituitary_gland_ant_%26_post.gif/84150015/433x284/Pituitary_gland_ant_%26_post.gif"/>
          <p:cNvPicPr/>
          <p:nvPr/>
        </p:nvPicPr>
        <p:blipFill>
          <a:blip r:embed="rId2"/>
          <a:stretch/>
        </p:blipFill>
        <p:spPr>
          <a:xfrm>
            <a:off x="6421320" y="1676520"/>
            <a:ext cx="274320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6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2" descr="https://s-media-cache-ak0.pinimg.com/736x/ed/60/0a/ed600a12c91578e82dc02f5eb2a63171.jpg"/>
          <p:cNvPicPr/>
          <p:nvPr/>
        </p:nvPicPr>
        <p:blipFill>
          <a:blip r:embed="rId2"/>
          <a:srcRect l="0" t="3333" r="0" b="5559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Rectangle 2"/>
          <p:cNvGrpSpPr/>
          <p:nvPr/>
        </p:nvGrpSpPr>
        <p:grpSpPr>
          <a:xfrm>
            <a:off x="-55440" y="115920"/>
            <a:ext cx="9296280" cy="1084320"/>
            <a:chOff x="-55440" y="115920"/>
            <a:chExt cx="9296280" cy="1084320"/>
          </a:xfrm>
        </p:grpSpPr>
        <p:pic>
          <p:nvPicPr>
            <p:cNvPr id="1079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115920"/>
              <a:ext cx="929628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"/>
            <p:cNvSpPr/>
            <p:nvPr/>
          </p:nvSpPr>
          <p:spPr>
            <a:xfrm>
              <a:off x="228600" y="228600"/>
              <a:ext cx="87631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I. Posterior Pituitary </a:t>
              </a:r>
              <a:r>
                <a:rPr b="1" lang="en-US" sz="3300" spc="-1" strike="noStrike">
                  <a:solidFill>
                    <a:srgbClr val="ffff00"/>
                  </a:solidFill>
                  <a:latin typeface="Arial"/>
                  <a:ea typeface="Arial"/>
                </a:rPr>
                <a:t>(=Neurohypophysis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1" name="PlaceHolder 1"/>
          <p:cNvSpPr>
            <a:spLocks noGrp="1"/>
          </p:cNvSpPr>
          <p:nvPr>
            <p:ph/>
          </p:nvPr>
        </p:nvSpPr>
        <p:spPr>
          <a:xfrm>
            <a:off x="-228600" y="990360"/>
            <a:ext cx="9220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long with hypothalamus forms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neuroendocrin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e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ctually produce any horm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DH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&amp;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Oxytocin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forme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mainly in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upraoptic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paraventricul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nuclei in hypothalamus respectively.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Transported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as granules b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pothalamo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pophyseal Nervous Tra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eorgia"/>
              </a:rPr>
              <a:t>Stores  &amp; release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wo small peptide hormone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(9 A.A.)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- Vasopressin (ADH)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serves water during urine 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- Oxytocin: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timulates uterine contraction during child-birth and milk ejection during breast-fee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2" name="Rectangle 2"/>
          <p:cNvGrpSpPr/>
          <p:nvPr/>
        </p:nvGrpSpPr>
        <p:grpSpPr>
          <a:xfrm>
            <a:off x="-55440" y="115920"/>
            <a:ext cx="9169200" cy="1388880"/>
            <a:chOff x="-55440" y="115920"/>
            <a:chExt cx="9169200" cy="1388880"/>
          </a:xfrm>
        </p:grpSpPr>
        <p:pic>
          <p:nvPicPr>
            <p:cNvPr id="1083" name="Rectangle 2" descr=""/>
            <p:cNvPicPr/>
            <p:nvPr/>
          </p:nvPicPr>
          <p:blipFill>
            <a:blip r:embed="rId1"/>
            <a:stretch/>
          </p:blipFill>
          <p:spPr>
            <a:xfrm>
              <a:off x="-55440" y="115920"/>
              <a:ext cx="916920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4" name=""/>
            <p:cNvSpPr/>
            <p:nvPr/>
          </p:nvSpPr>
          <p:spPr>
            <a:xfrm>
              <a:off x="152280" y="228600"/>
              <a:ext cx="8763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00"/>
                  </a:solidFill>
                  <a:latin typeface="Georgia"/>
                  <a:ea typeface="Arial"/>
                </a:rPr>
                <a:t>Relationship of  Hypothalamus &amp; Posterior Pituitary</a:t>
              </a:r>
              <a:br>
                <a:rPr sz="2500"/>
              </a:br>
              <a:r>
                <a:rPr b="1" lang="en-US" sz="2800" spc="-1" strike="noStrike">
                  <a:solidFill>
                    <a:srgbClr val="ffff00"/>
                  </a:solidFill>
                  <a:latin typeface="Georgia"/>
                  <a:ea typeface="Arial"/>
                </a:rPr>
                <a:t>(Hypothalamo-Hypophyseal Nervous Trac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4800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9520" indent="-38952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sopressin &amp; oxytocin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ynthesized in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raoptic &amp; paraventricul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clei in the hypothalamu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rmone travels down the axon to be stored in the neuronal terminals within the posterior pituitar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0" algn="just">
              <a:lnSpc>
                <a:spcPct val="5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9520" indent="-389520" algn="just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xcitation of the neuron, the stored hormone is released from these terminals into the systemic blood for distribution throughout the b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5" descr=""/>
          <p:cNvPicPr/>
          <p:nvPr/>
        </p:nvPicPr>
        <p:blipFill>
          <a:blip r:embed="rId2"/>
          <a:srcRect l="0" t="0" r="0" b="31074"/>
          <a:stretch/>
        </p:blipFill>
        <p:spPr>
          <a:xfrm>
            <a:off x="5105520" y="1523880"/>
            <a:ext cx="3809880" cy="510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Dell</cp:lastModifiedBy>
  <dcterms:modified xsi:type="dcterms:W3CDTF">2015-12-14T07:18:13Z</dcterms:modified>
  <cp:revision>135</cp:revision>
  <dc:subject/>
  <dc:title>Slide 1</dc:title>
</cp:coreProperties>
</file>